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rbrake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CAB-FD95-4011-94FF-AABDAF51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5F9-5BF0-470D-8250-DCCCA2EC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7F9-9FBA-4D66-9EBE-53A91305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B21-3601-436B-8FAF-D9458803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437-7511-428E-A901-F3E460B7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DE8-8577-4841-9971-DBA5D982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24A-2874-4DCE-95DB-845A58C0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912-5846-4953-8591-4E1CF899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751-FC68-4805-898C-E57BE256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185-7333-4233-A0AC-94EB561D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50F-C13B-4EAF-98B5-EA68C3C6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154-D712-4EF6-917A-CA672398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D730-BD6F-4A03-8E72-32487261F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whoosh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447920" y="380880"/>
            <a:ext cx="6257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2nd Industrial Revolu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304920" y="1447920"/>
            <a:ext cx="459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The Steel Industr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55640" y="2133720"/>
            <a:ext cx="81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The Bessemer Proces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ed for faster production of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59240" y="2514600"/>
            <a:ext cx="74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Great Lakes shipping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ught iron ore from Midw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838080" y="3124080"/>
            <a:ext cx="319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Andrew Carnegi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380880" y="4038480"/>
            <a:ext cx="3981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The Oil Industr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972360" y="4689360"/>
            <a:ext cx="62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Edwin Drake drills for oil near Titusville,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1673640" y="525780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dcatters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 su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830880" y="5943600"/>
            <a:ext cx="51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xas oil boom also begins at this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2" descr="C:\Program Files\Common Files\Microsoft Shared\Clipart\cagcat50\IN00483_.wmf"/>
          <p:cNvPicPr/>
          <p:nvPr/>
        </p:nvPicPr>
        <p:blipFill>
          <a:blip r:embed="rId1"/>
          <a:stretch/>
        </p:blipFill>
        <p:spPr>
          <a:xfrm>
            <a:off x="5715000" y="2971800"/>
            <a:ext cx="15238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609480" y="457200"/>
            <a:ext cx="4191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Transport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37240" y="1143000"/>
            <a:ext cx="51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ap steel leads RR to lay more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s longer than eve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990720" y="2133720"/>
            <a:ext cx="648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ranscontinental Railroad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670760" y="2895480"/>
            <a:ext cx="61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line from Omaha to the Pacif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215000" y="3352680"/>
            <a:ext cx="64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nk 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ajor Rail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der or Branch 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nnect outlying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596240" y="480060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George Westinghouse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air b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497320" y="4003560"/>
            <a:ext cx="32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gauge &amp;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C:\Program Files\Common Files\Microsoft Shared\Clipart\cagcat50\BD06288_.WMF"/>
          <p:cNvPicPr/>
          <p:nvPr/>
        </p:nvPicPr>
        <p:blipFill>
          <a:blip r:embed="rId1"/>
          <a:stretch/>
        </p:blipFill>
        <p:spPr>
          <a:xfrm>
            <a:off x="2743200" y="5257800"/>
            <a:ext cx="27432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609480" y="533520"/>
            <a:ext cx="47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Horseless Carria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366560" y="1219320"/>
            <a:ext cx="674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allows for better production of mo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combustion engines attempted (gaso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a self propelled veh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00 wealthy Americans were using automob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838080" y="3124080"/>
            <a:ext cx="2352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Airplan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441800" y="3809880"/>
            <a:ext cx="44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ternal combus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gliders into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8"/>
          <p:cNvSpPr txBox="1"/>
          <p:nvPr/>
        </p:nvSpPr>
        <p:spPr>
          <a:xfrm>
            <a:off x="762120" y="4724280"/>
            <a:ext cx="4476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Orville &amp; Wilbur Wrigh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734840" y="5222880"/>
            <a:ext cx="433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flight: Kitty Hawk, 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ed 12 seconds, went 12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" descr="C:\Program Files\Common Files\Microsoft Shared\Clipart\cagcat50\TN00686_.wmf"/>
          <p:cNvPicPr/>
          <p:nvPr/>
        </p:nvPicPr>
        <p:blipFill>
          <a:blip r:embed="rId1"/>
          <a:stretch/>
        </p:blipFill>
        <p:spPr>
          <a:xfrm>
            <a:off x="6324480" y="3200400"/>
            <a:ext cx="1951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609480" y="457200"/>
            <a:ext cx="390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Communica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365840" y="1676520"/>
            <a:ext cx="61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Telegraph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t &amp; dash code using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86160" y="129528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uel F.B. M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85080" y="243828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exander Graham 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433520" y="2860560"/>
            <a:ext cx="17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ph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86880" y="365760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omas Alva Edison (Menlo Pa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656000" y="4232160"/>
            <a:ext cx="55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1,0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Bulb, Phonograph, Use of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C:\Program Files\Common Files\Microsoft Shared\Clipart\cagcat50\BD06990_.WMF"/>
          <p:cNvPicPr/>
          <p:nvPr/>
        </p:nvPicPr>
        <p:blipFill>
          <a:blip r:embed="rId1"/>
          <a:stretch/>
        </p:blipFill>
        <p:spPr>
          <a:xfrm>
            <a:off x="5486400" y="457200"/>
            <a:ext cx="1447920" cy="1228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C:\Program Files\Microsoft Office\Clipart\standard\stddir1\BD04922_.WMF"/>
          <p:cNvPicPr/>
          <p:nvPr/>
        </p:nvPicPr>
        <p:blipFill>
          <a:blip r:embed="rId2"/>
          <a:stretch/>
        </p:blipFill>
        <p:spPr>
          <a:xfrm>
            <a:off x="6629400" y="2286000"/>
            <a:ext cx="15476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1447920" y="380880"/>
            <a:ext cx="6257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Rise of Big Busin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04920" y="1447920"/>
            <a:ext cx="459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Capitalis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1137600" y="2209680"/>
            <a:ext cx="603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determines how much goods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how much workers are p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WordArt 14"/>
          <p:cNvSpPr txBox="1"/>
          <p:nvPr/>
        </p:nvSpPr>
        <p:spPr>
          <a:xfrm>
            <a:off x="914400" y="3200400"/>
            <a:ext cx="305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Horatio Alger Jr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746360" y="3657600"/>
            <a:ext cx="557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d no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ck &amp; Pluck series  (rags to riches the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755640" y="4537080"/>
            <a:ext cx="73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issez-faire Capit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Let the people choo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Go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involvement in economy (free enterpr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756360" y="563868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sm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owns everything, everyone i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0"/>
          <p:cNvSpPr txBox="1"/>
          <p:nvPr/>
        </p:nvSpPr>
        <p:spPr>
          <a:xfrm>
            <a:off x="533520" y="380880"/>
            <a:ext cx="32670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Andrew Carnegi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135800" y="1066680"/>
            <a:ext cx="735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.S.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tical Integration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 everything from start to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) mines, factories, shipping,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2"/>
          <p:cNvSpPr txBox="1"/>
          <p:nvPr/>
        </p:nvSpPr>
        <p:spPr>
          <a:xfrm>
            <a:off x="668160" y="2514600"/>
            <a:ext cx="3581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John D. Rockefelle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272240" y="3241800"/>
            <a:ext cx="78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 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izontal Integration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other compan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) own ALL the oil refin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WordArt 14"/>
          <p:cNvSpPr txBox="1"/>
          <p:nvPr/>
        </p:nvSpPr>
        <p:spPr>
          <a:xfrm>
            <a:off x="380880" y="4648320"/>
            <a:ext cx="376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Cornelius Vanderbil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15"/>
          <p:cNvSpPr txBox="1"/>
          <p:nvPr/>
        </p:nvSpPr>
        <p:spPr>
          <a:xfrm>
            <a:off x="380880" y="5410080"/>
            <a:ext cx="39909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George Westinghous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George Pullma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WordArt 16"/>
          <p:cNvSpPr txBox="1"/>
          <p:nvPr/>
        </p:nvSpPr>
        <p:spPr>
          <a:xfrm>
            <a:off x="4876920" y="4800600"/>
            <a:ext cx="3943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ss Marke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295280" y="304920"/>
            <a:ext cx="620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Labor strives to organiz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037600" y="1031760"/>
            <a:ext cx="503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monopolies growing 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Steel, Standard Oil,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taxes on im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80880" y="2362320"/>
            <a:ext cx="483876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Sherman Antitrust Ac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11040" y="2895480"/>
            <a:ext cx="674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utlawed monopolies &amp; trusts which restrained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id very little to change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457200" y="4114800"/>
            <a:ext cx="6058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Poor working condit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521720" y="4800600"/>
            <a:ext cx="26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&amp;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i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685800" y="380880"/>
            <a:ext cx="3086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Knights of Labo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217520" y="838080"/>
            <a:ext cx="525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, working for the rights of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r conditions, shorter days, more 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rrance V. Powde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y Harris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ther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685800" y="2514600"/>
            <a:ext cx="3648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The Great Upheaval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439640" y="2971800"/>
            <a:ext cx="60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strikes take place throughout the 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urn vio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aymarket Ri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anarchi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685800" y="4191120"/>
            <a:ext cx="545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American Federation of Labo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365840" y="4800600"/>
            <a:ext cx="51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ed workers separate from unsk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muel Gom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685800" y="5791320"/>
            <a:ext cx="5467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Homestead &amp; Pullman Strik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2:27:51Z</dcterms:created>
  <dc:creator>nalbert</dc:creator>
  <dc:description/>
  <dc:language>en-US</dc:language>
  <cp:lastModifiedBy>PA Department of Education Classrooms for the Future</cp:lastModifiedBy>
  <dcterms:modified xsi:type="dcterms:W3CDTF">2013-01-24T16:37:25Z</dcterms:modified>
  <cp:revision>9</cp:revision>
  <dc:subject/>
  <dc:title>PowerPoint Presentation</dc:title>
</cp:coreProperties>
</file>